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0744-6B21-4396-BD37-D4C4A4FCD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5480" y="347328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9890-B5C1-4347-AA52-FD7D9E0A3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6496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CC97-3E4A-4589-8664-16A1DE682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52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0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54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52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0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C5E2-F48C-4D4E-BD8D-23FE438AB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82480" y="158400"/>
            <a:ext cx="79790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88F3-11EA-4C77-8B01-D4793022D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6496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15480" y="347328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6496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552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50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154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552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50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C71A-7AFB-4775-9A70-4DA01EDDD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F786-19F2-4519-8656-891EFF5E2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CF81-1D28-4CD0-AB84-D35D4D1A1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82480" y="158400"/>
            <a:ext cx="79790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6FA0-28FE-484A-9078-6140AE15A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B38A-FBBA-4D1E-938E-3D2D8E55E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496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8A9D-E454-4DAA-BE1B-F98A10613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8CBF-32D7-4624-9611-302FE2030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1" marL="343080" indent="-343080">
              <a:spcBef>
                <a:spcPts val="34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43080" indent="-343080">
              <a:spcBef>
                <a:spcPts val="349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3" marL="343080" indent="-343080">
              <a:spcBef>
                <a:spcPts val="34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343080" indent="-343080">
              <a:spcBef>
                <a:spcPts val="34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64200" y="6308280"/>
            <a:ext cx="1422720" cy="3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page </a:t>
            </a:r>
            <a:fld id="{403C5DCB-6C2C-4A34-ABEA-BB336A7E5E14}" type="slidenum">
              <a:rPr b="1" lang="fr-F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/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95640" y="6337440"/>
            <a:ext cx="45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Palatino Linotype"/>
              </a:rPr>
              <a:t>ÉQUIPES DE RÊVE EN ACTION !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313000" y="6194520"/>
            <a:ext cx="451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Palatino Linotype"/>
              </a:rPr>
              <a:t>EUREKA ! ET CHEF-D’ŒUVRE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2480" y="15732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Rounded MT Bold"/>
              </a:rPr>
              <a:t>LE JEU DE LA VOIE DES CONTES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3920"/>
            <a:ext cx="2432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. LE CHANGEMENT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1 / 51 :  Le Corbeau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2 / 52 :  Toutes-Fourrur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3 / 53 :  L’Esprit dans la bouteille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4 / 54 :  L’Eau de la vie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. LES OBSTACL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5 / 55 :  Sept d’un coup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6 / 56 :  Unœil, Deuxyeux, Troisyeux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7 / 57 :  L’Ondine dans son étang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8 / 58 :  L’Homme de fer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. LES COINCIDENC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9 / 59 :  L’Homme à la peau d’our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0 / 60 :  Les Trois oisillon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1 / 61 :  Jean‑le‑Fidèle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2 / 62 :  Le Serpent blanc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. L’INSPIRATION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3 / 63 :  Les Trois plum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4 / 64 :  La Fille intelligente du paysan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5 / 65 :  Les Douze frèr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6 / 66 :  Le Roi Barbabec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5. L’ATTENTION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7 / 67 :  Frérot et sœurette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8 / 68 :  La Gardeuse d’oi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9 / 69 :  La Boule de cristal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0 / 70 :  Le Genévrier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1125360"/>
            <a:ext cx="273528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0. L’AMB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7 / 87 :  Le Chat bot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8 / 88 :  Le Petit chaperon rou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9 / 89 :  L’Énig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0 / 90 :  Tom po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1. L’ENSE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1 / 91 :  Le Tap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2 / 92 :  Mushkil Gu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3 / 93 :  Les Trois insépar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4 / 94 :  Le Parr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2. LA CROISS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5 / 95 :  Volé-Trouv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6 / 96 :  La Lumière bl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7 / 97 :  Diable-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8 / 98 :  Le Bouff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3. LA CRE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9 :   Fuseau, navette, aigu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50 :   La Fanfare de Brê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99 :   La Belle et la Bê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00 :   Le Langage des anim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6880" y="1125360"/>
            <a:ext cx="273528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6. LE V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1 / 71 :  L’Ouisti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2 / 72 :  La Sacoche, le vieux chapeau,  la petite trompe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3 / 73 :  Hans‑mon‑héris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4 / 74 :  Le Tamb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7. LE MODELE DE CROISS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5 / 75 :  L’Oiseau d’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6 / 76 :  La Maison forestiè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7 / 77 :  Dame Ho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8 / 78 :  L’Œ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8. LES DEMONS INTERI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9 / 79 :  Le Vieux cricr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0 / 80 :  L’ Âne‑sa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1 / 81 :  Le Diable et sa grand‑mè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2 / 82 :  Le Prince qui n’avait peur de 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9. LE DES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3 / 83 :  Les Douze chass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4 / 84 :  Le Docteur je‑sais‑t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5 / 85 :  Les Six servi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6 / 86 :  Le Diable et ses trois cheveux d’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7:50:21Z</dcterms:created>
  <dc:creator>Langevin Eric</dc:creator>
  <dc:description/>
  <dc:language>en-US</dc:language>
  <cp:lastModifiedBy>Eric Langevin</cp:lastModifiedBy>
  <dcterms:modified xsi:type="dcterms:W3CDTF">2010-03-25T20:51:07Z</dcterms:modified>
  <cp:revision>892</cp:revision>
  <dc:subject/>
  <dc:title>Présentation PowerPoint</dc:title>
</cp:coreProperties>
</file>