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Click to move the slide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46A-29BC-4E9B-9CC5-F492A44FD9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-2289240" y="304920"/>
            <a:ext cx="11379240" cy="8534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tre à l’aise les participants, ne pas hésiter à saluer et compléter les présentations de ceux que l’on connait avec des anecd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A03-E375-4933-BB8C-FBBD2E24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3C3-205B-45F8-A514-D7AA26F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E67-C1DD-41CF-8CBE-49A746CC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ED-7EB6-482A-B2A5-E8B550C0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4C2C-EC61-44F0-BC56-0142B6063A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4D942-B2E5-41A1-B868-01BFB98C00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C371-6F89-41B1-B0C7-54AB5DE387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762B2-474A-4C46-BFC3-CFC5A411C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80ED-4B22-47FE-A78E-44A2A09A6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D69B7-BD2C-4B69-81F9-F8201F7835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6F88-5350-4531-8BCE-A001A58AE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C81-A2F1-48DC-828D-E9F7469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ED51-C11E-4476-9C09-F2A275FAA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D6B8E-2668-4868-BD67-78E31B8B14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36AE0-52B4-4503-A1C4-5D0CF813B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79EAD-6821-4D1D-A412-87F7DF39EC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819EB-A51B-4A05-B98B-887A3C349B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1C9-8696-4D99-AA36-CC5B88E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2B7-7F4D-40D0-89C5-E836B0F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DB7-9F36-4EC3-B161-7E5E4944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21B-F3DE-474E-BDEB-54712E04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4FC-843D-4575-B6B7-A396415B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5AB-449B-4DF9-BD86-2566799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C0C-510B-4C72-A599-8B7C866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6F9-62DE-4D00-86F6-7E498D491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spcBef>
                <a:spcPts val="1001"/>
              </a:spcBef>
              <a:buSzPct val="1337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Click to edit the outline text format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762120" indent="-279360" algn="just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econd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2" marL="1434960" indent="-291960" algn="just">
              <a:spcBef>
                <a:spcPts val="1001"/>
              </a:spcBef>
              <a:buClr>
                <a:srgbClr val="c66321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Third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3" marL="2390760" indent="-280800" algn="just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Four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4" marL="2874960" indent="-293760" algn="just">
              <a:spcBef>
                <a:spcPts val="1001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Fif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5" marL="2874960" indent="-293760" algn="just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ix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6" marL="2874960" indent="-293760" algn="just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even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457840" y="64771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50CC-FC28-4A70-ADD9-016AAC5F7EF0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wCGlobalLear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008760" y="250920"/>
            <a:ext cx="2019240" cy="3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158320" y="115920"/>
            <a:ext cx="86328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60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14440" y="24382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14440" y="3505320"/>
            <a:ext cx="472428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9920" y="6095880"/>
            <a:ext cx="2851200" cy="52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993080" y="189000"/>
            <a:ext cx="10429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0120" y="9540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760" y="15876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Les différents rôles dans une équ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745" t="4472" r="3745" b="0"/>
          <a:stretch/>
        </p:blipFill>
        <p:spPr>
          <a:xfrm>
            <a:off x="1763640" y="1773360"/>
            <a:ext cx="5329440" cy="410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981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4972"/>
                </a:solidFill>
                <a:latin typeface="Arial"/>
              </a:rPr>
              <a:t>La performance de l'équipe dépend moins des personnalités qui la composent que de l'équilibre des rôles tenus par chacun de ses memb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60278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4972"/>
                </a:solidFill>
                <a:latin typeface="Arial"/>
              </a:rPr>
              <a:t>Un même rôle pouvant être endossé dans des contextes professionnels donnés par des personnalités totalement distinc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97840" y="5553000"/>
            <a:ext cx="227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4972"/>
                </a:solidFill>
                <a:latin typeface="Arial"/>
              </a:rPr>
              <a:t>Source: Les rôles en équipe : Meredith Bel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568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da8d5"/>
                </a:solidFill>
                <a:latin typeface="Arial"/>
              </a:rPr>
              <a:t>Les différents rôles dans une équipe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160" y="1019520"/>
            <a:ext cx="8992080" cy="5380560"/>
            <a:chOff x="38160" y="1019520"/>
            <a:chExt cx="8992080" cy="5380560"/>
          </a:xfrm>
        </p:grpSpPr>
        <p:sp>
          <p:nvSpPr>
            <p:cNvPr id="141" name=""/>
            <p:cNvSpPr/>
            <p:nvPr/>
          </p:nvSpPr>
          <p:spPr>
            <a:xfrm>
              <a:off x="38160" y="1019520"/>
              <a:ext cx="145404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080" y="10893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Typ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90760" y="1019520"/>
              <a:ext cx="249696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41920" y="1089360"/>
              <a:ext cx="128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aractéristiqu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79800" y="1019520"/>
              <a:ext cx="249732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4040" y="10893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Quali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81800" y="1019520"/>
              <a:ext cx="249696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65560" y="1089360"/>
              <a:ext cx="164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Faiblesses possib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160" y="1372680"/>
              <a:ext cx="145404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9440" y="1416600"/>
              <a:ext cx="123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'organis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0760" y="1372680"/>
              <a:ext cx="249696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73920" y="1415160"/>
              <a:ext cx="242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servateur, prévisible, gran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71760" y="159048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de travail, a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1590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3440" y="159048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iscipli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9800" y="1372680"/>
              <a:ext cx="249732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0800" y="1415160"/>
              <a:ext cx="247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d'organisation, bon s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8560" y="1372680"/>
              <a:ext cx="249876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60280" y="1415160"/>
              <a:ext cx="245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que de souplesse envers l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7040" y="1590480"/>
              <a:ext cx="1436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dées non prouvé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1901880"/>
              <a:ext cx="145404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440" y="194544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souti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90760" y="1901880"/>
              <a:ext cx="249696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68880" y="1943640"/>
              <a:ext cx="887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lme, a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3240" y="19436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0520" y="194364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trôle et confianc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7440" y="21214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n so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9800" y="1901880"/>
              <a:ext cx="249732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61880" y="1943640"/>
              <a:ext cx="2661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à traiter et accueillir tout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0800" y="2121480"/>
              <a:ext cx="234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es contributions potentielles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2296800"/>
              <a:ext cx="235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ière objectives. Orienté v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es 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ob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54320" y="2472480"/>
              <a:ext cx="18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8560" y="1901880"/>
              <a:ext cx="249876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7400" y="1943640"/>
              <a:ext cx="178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eu enclin à la créativi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60" y="2871720"/>
              <a:ext cx="145404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9440" y="2915640"/>
              <a:ext cx="118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propuls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90760" y="2871720"/>
              <a:ext cx="249696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2120" y="2913480"/>
              <a:ext cx="18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ynamique, centré sur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70680" y="309132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éalisation, nerv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9800" y="2871720"/>
              <a:ext cx="249732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1520" y="2913480"/>
              <a:ext cx="254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et volonté de faire face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59000" y="3091320"/>
              <a:ext cx="199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'inertie, à l'inefficacité, à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56480" y="3266640"/>
              <a:ext cx="100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mplais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8560" y="2871720"/>
              <a:ext cx="249876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60280" y="2913480"/>
              <a:ext cx="230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Tendance à la provocation et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4880" y="3091320"/>
              <a:ext cx="86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'impati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60" y="357588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080" y="3621960"/>
              <a:ext cx="121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concep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90760" y="357588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2840" y="3620160"/>
              <a:ext cx="235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dividualiste, original, intellig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79800" y="357588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61880" y="3620160"/>
              <a:ext cx="267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"Génie", imagination, connaissance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56120" y="379584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tellig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78560" y="357588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9560" y="3620160"/>
              <a:ext cx="230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"Plane", ne s'intéresse pas aux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9200" y="3795840"/>
              <a:ext cx="2295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aspects pratiques ni aux détai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60" y="4105080"/>
              <a:ext cx="145404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600" y="41508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240" y="436140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omo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90760" y="4105080"/>
              <a:ext cx="249696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3560" y="4149000"/>
              <a:ext cx="243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xtraverti, curieux, enthousiaste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7800" y="43246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xpansi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9800" y="4105080"/>
              <a:ext cx="249732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0080" y="4149000"/>
              <a:ext cx="220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Facilité de contact Capacité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8280" y="4324680"/>
              <a:ext cx="136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épondre aux déf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8560" y="4105080"/>
              <a:ext cx="249876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0640" y="4149000"/>
              <a:ext cx="246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usceptible de perdre tout intérê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9480" y="4324680"/>
              <a:ext cx="2053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our la mission, une fois l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remier 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nthousiasme passé</a:t>
              </a: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4500360"/>
              <a:ext cx="1800" cy="1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60" y="481140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0160" y="485568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’exp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90760" y="481140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2840" y="4853520"/>
              <a:ext cx="194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obre, peu émotif, prud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9800" y="481140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0800" y="485352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Jugement, prudence, ténaci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8560" y="481140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59560" y="485352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que d'inspiration, n'a pas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9920" y="502956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pour motiver les aut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160" y="534024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800" y="538416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pris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0760" y="534024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0680" y="538272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ociable, sensible, convivi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79800" y="534024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59720" y="5382720"/>
              <a:ext cx="223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ensibilité à autrui, capacité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9720" y="55602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romouvoir l'esprit d'équi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8560" y="534024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8840" y="5382720"/>
              <a:ext cx="208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décis dans les périodes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ri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60" y="586944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1600" y="59133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9080" y="6125400"/>
              <a:ext cx="124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erfectionn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0760" y="586944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1760" y="5911200"/>
              <a:ext cx="170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éthodique, soigneux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70680" y="6089040"/>
              <a:ext cx="169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sciencieux, anxi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9800" y="586944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2240" y="5911200"/>
              <a:ext cx="271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Volonté d'aller "au bout des choses"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56480" y="60890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étermin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78560" y="586944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0280" y="5911200"/>
              <a:ext cx="239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Tendances à s'inquiéter pour u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9200" y="6089040"/>
              <a:ext cx="199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ien, ne laisse rien "passer"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8:57:50Z</dcterms:created>
  <dc:creator>payette</dc:creator>
  <dc:description/>
  <dc:language>en-US</dc:language>
  <cp:lastModifiedBy>payette</cp:lastModifiedBy>
  <dcterms:modified xsi:type="dcterms:W3CDTF">2010-02-03T08:57:57Z</dcterms:modified>
  <cp:revision>1</cp:revision>
  <dc:subject/>
  <dc:title>Diapositive 1</dc:title>
</cp:coreProperties>
</file>